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8BD-6738-4777-9123-CC51525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FC0-9C64-46C3-9DDE-C78B6997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9E1-6F52-4DDB-8F04-10F11E97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870-5F09-498D-B4DE-36FCFFD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893-6DB4-4228-9F88-9E6011D7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536-5090-4C30-91D1-A4885B41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F16-A05D-4A9B-BF9A-730D4C5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71A-41F9-4A43-8788-8511BF2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AC5-191A-4CC1-A958-6C8AE72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5BA-BBB0-4DD0-AB58-FEFDE5D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1B3-CA1F-4C89-B3F8-18CFA09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8B6-6481-4B08-B6F0-81BE82E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B82-03E8-48B5-956E-9AE16FFE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Jo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Lawson and Cam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pothec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ruggist that does more than just sell drug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cribes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ormed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ls w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s broken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herbs and plants in medic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pothecary needs practice, concentration and a skilled e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22:18Z</dcterms:created>
  <dc:creator> </dc:creator>
  <dc:description/>
  <dc:language>en-US</dc:language>
  <cp:lastModifiedBy> </cp:lastModifiedBy>
  <dcterms:modified xsi:type="dcterms:W3CDTF">2010-05-04T14:28:11Z</dcterms:modified>
  <cp:revision>5</cp:revision>
  <dc:subject/>
  <dc:title>Jobs</dc:title>
</cp:coreProperties>
</file>